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E543A-EF74-4CDC-9E0E-1BCCF9BD8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C433-A58D-4D6D-BFF6-38F30A372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119D4-3DD3-45E5-AA21-5FBC2ABE1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55DE9-C0C9-425D-B57B-013684656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9643-E10D-46F1-BF96-BDBBBD30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D90A1-6785-4AF5-951F-6457B61BA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21281-F0FC-443A-978B-21082401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1CF49-3E9E-44BF-ADBA-2A57042C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2997-00B8-4984-898A-0DB7E8009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2C9D9-6C77-4489-8246-1E4739A75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4AAB-AE6F-4ED5-8586-BB00D927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CECF-E06E-43D1-B2DE-3DC6EF43D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12E5-0A75-499C-9AC0-1A1B71DB2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9966"/>
                </a:solidFill>
                <a:latin typeface="comic"/>
              </a:rPr>
              <a:t>JAMA MASJID</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33720" y="1676520"/>
            <a:ext cx="55623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66"/>
                </a:solidFill>
                <a:latin typeface="Arial"/>
              </a:rPr>
              <a:t>The Biggest Mosque In Indi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Near the Red Fort about 500m away is the Jama masjid, the biggest mosque in India. It was begun by Shah Jahan in 1650 and completed six years later and the whole cost about a million rupees. It is hard to imagine a building more suited to evoking the awe of the majesty of Allah in man. The mosque stands on a rocky elevation. Its huge gateway looks down at you like fastidious connoisseur from an immense platform which has steps that lead up to i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09:52:16Z</dcterms:created>
  <dc:creator>pc</dc:creator>
  <dc:description/>
  <dc:language>en-US</dc:language>
  <cp:lastModifiedBy>pc</cp:lastModifiedBy>
  <dcterms:modified xsi:type="dcterms:W3CDTF">2010-03-02T10:01:17Z</dcterms:modified>
  <cp:revision>2</cp:revision>
  <dc:subject/>
  <dc:title>JAMA MASJID</dc:title>
</cp:coreProperties>
</file>